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782-7856-4EAA-9824-4E7E9613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C26-F782-456A-AB7C-09BC15B5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476-5769-4654-B228-1A363CE8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597-0D38-4E1F-B174-8B1AE3C5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CAA5-0DE5-4153-9012-B573D4F1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EA19-9378-4475-A388-E05D888C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7A81-22C2-4B9C-8EE4-5B4FA570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5B36-C6F7-4F25-AE0C-5B8D9B54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18D9-AE56-47EB-9322-E25FA2EE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2BD5-F844-41AA-B362-C32C6F72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8E3F-67AF-41A9-8B86-65CA9D44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AD50-5EB7-4D78-915D-2B67D323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6E58-D324-4A4A-889D-283FFA1B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0972-07BD-46DB-8FA3-89352653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4902-4BB4-4867-B5D5-1136B6BE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33EC-A864-472B-835C-8BF284A0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4375-0046-4A6D-8D75-FAB90245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03C-A01B-4803-B2D3-17D22927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562-5A58-458E-8B9B-28A6E48F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DA6-E7FC-4ACD-B270-3794F41C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462-E615-46A0-A1EA-294F4C02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78C7-6C1E-4454-8E14-89155264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73D-73D2-437E-8FCB-324E76AA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6C7-E2C7-4DFD-8FED-7DC212E8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9D4B-2027-4D98-83D9-1692CF747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7F11-986C-4EFA-B2A4-3EAF8777D0A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十一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管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事考核的方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物比较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素分析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量考核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综合考评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考试评议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三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培训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员工培训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战略性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以致用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人施教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内容结构合理化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员工教育培训的内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技术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高级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员工培训的方法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务转换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研究讨论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职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校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四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员激励机制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激励是指挖掘人的潜力，充分调动人的积极性。在现代公司管理制度中，应该重视对职工的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公司的激励手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种是物质激励，另一种是精神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部门在采取激励措施时还必须注意以下几点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将物质激励和精神激励相结合，采用恰当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组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不同时期、不同环境条件下，对不同的员工要区别对待，灵活激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措施要公正，要以客观事实为依据，恰如其分地进行激励，对公司的每一个员工都要一视同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劳动工资管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的劳动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劳动分工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劳动协作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额定编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节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概述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工资福利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员工的劳动报酬分两部分，一部分是直接的金钱报酬，包括工资、奖金、津贴；另一部分是间接的报酬，也就是职工的福利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28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思考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力资源管理的主要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人力资源管理应遵循哪些原则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事考核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员工培训的基本原则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员工培训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有哪几种类型？保险公司在采取激励机制时应注意哪些问题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劳动管理的主要内容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力资源管理的概念与任务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的基本任务是根据保险公司发展战略的要求，通过有计划地对人力资源进行合理配置，加强公司员工的教育培训和人力资源的开发，推动整个保险公司各项工作的开展，确保保险公司战略目标的实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人力资源管理的内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规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招聘、选择和人事安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结构的合理配置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教育、培训和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工作评价和考核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事业生涯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资福利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力资源管理的原则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时须遵循以下几个原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协调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任人唯贤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能位相宜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群体合力和互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态适应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加强人力资源管理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提高保险公司的劳动效率和经济效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保险公司职工的全面发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有利于建立现代保险公司制度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事绩效考核的功能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础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导向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督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人事绩效考核的内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的主要内容有：德、能、勤、绩四个方面，以绩为重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6:08:57Z</dcterms:modified>
  <cp:revision>55</cp:revision>
  <dc:subject/>
  <dc:title>没有幻灯片标题</dc:title>
</cp:coreProperties>
</file>